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BC2-8F9C-40FB-BFA6-215E2234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564-A132-4A70-9238-BD3751FA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691-B8C2-4F02-865D-DFBA51A6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AF6-FADD-451B-AB4A-38E2BC83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057C-6F72-4E71-BC01-947D3228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8436-BEB5-4866-9F22-C88B8F35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F9A0-8CC0-48D4-BF2D-FF88F79F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C177-1A9B-4F32-85B2-E9651E42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714A-048F-488A-A7CF-6DCF4A4F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8133-A474-428D-BDB6-7C7F449F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FD4E-25D8-4D9D-BB8F-375837FA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0B1-1DE7-4FAA-AB0F-A06D9D53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6FE0-B9A4-410B-A7F3-E210EC9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D7E1-1938-46E7-9EA1-2D34A6A1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9CDD-F224-4433-A413-98D6165E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9BCB-4C13-4CDF-BA85-7A0C7E74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7405-A04B-4EA2-9EDF-C29D5CDB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1001-E17D-4992-8972-D0766CD4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C69C-D57E-4F7B-A66F-CF5684F1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C68A-0D1A-4191-AD5B-56CFB528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BCC8-FDF9-4EB6-898E-0E500034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C9EC-B34D-41AF-833D-B75AEC77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952-159E-4787-99CA-B5CD02DE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D74F-AEE5-4371-93D6-E3BFB9E1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5335-ABFB-4DB2-915C-82F86638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2105D-25FD-453C-9B26-477808F6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F7DBA-774E-43CF-B639-78913C3A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DAE3-7566-4782-A238-11FB8CB6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419A-0E46-4D50-930A-DC832EC1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C92C-5005-4F8E-8DBA-C8D331A0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C680F-E1C8-412A-8578-4B38E0B5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873F-E5EB-4979-933D-DC75D019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6D8F5-DA1B-4F01-A945-78994154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3C3-96B0-4FF8-902E-18AD0F8A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E0383-169D-45A0-BD66-F1221D8E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0A7B-397E-49C7-A50C-BAD6CFA9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4BD31-1DBD-414F-8CE8-2BFAA9B2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135A2-4AC4-4C80-AC10-B43F95E3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D702A-F615-44AB-9622-126589B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425AF-F2BE-493B-8AA4-939A75C5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2D32-3692-49DE-A31F-55F524B4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84DF-C635-494E-B264-E7C6DEEB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7518-4650-4DE7-AFAD-BA1C35B3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9A68B-C062-401E-864D-F18E2DBD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C71-1F80-4800-960D-D3887EF9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16A0E-814B-48B8-8DEB-C316DF99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2F3A-7067-4A42-9CE6-BD7A5213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9668C-ECAB-46DA-AFB4-BCDB56F2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DB35D-967B-41B7-9EB5-1F1CC99F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70E48-49C5-463F-9C30-45418D71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8BA2-B84F-41B5-AF95-D24FE76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35D78-FD19-4CE6-8920-253A94D8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5D286-DA7E-47C8-BF65-C038C30E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C39FA-493A-4BD0-81BE-DCD339C5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E0BC8-C1E6-4A56-A525-676FDCF3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A3D-0016-4C08-BA47-10668354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75BE5-70DC-41D3-8282-F4DE20BD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777C8-866B-496A-9F49-582A259A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25A0C-022A-46BA-ADAC-DD24B350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D21FE-054D-4C0B-90E0-BEDE0B53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B05F2-8177-475F-8EDC-7E210354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A44E-3111-4C06-87EA-22756229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BF538-98B0-4281-B3CC-3DD41EE1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B18E9-5D89-4CE9-9C2F-744D53BB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24B77-7E43-4351-A070-19777CD9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DDBD9-850A-4324-9395-5D94CC0B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0CA-0976-4F2B-974C-0F98D9F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80FA9-0494-4751-B473-F2F9BCA8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AF2BE-5484-4019-B9CA-8C169891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A1FF6-A5FA-4AF7-BB75-6B343CCA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E0E99-3F53-4E61-9116-1F397EC0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05FD5-CC0E-458A-BFEB-EB1CA6A0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1E35F-0F0B-4597-AF68-4521EF53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CFAFE-B0A0-4381-BFB1-C93EE63A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4B5AE-E472-49CF-89A5-61DFB0D5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2731C-FE83-43CD-9FF8-F6820802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10F9C-435A-4D28-9489-6D204C0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669-CF9D-411F-A7DB-5CB614FA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696CF-669A-4E21-856E-B47164A1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EA626-111C-4216-AE24-4BDA0EDE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A5ED5-5639-43FE-8E90-745F677A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1B590-D616-4E0C-8A25-C6E4B4B8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EE0FD-056A-416E-A89C-BF214B3B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47A37-2543-4802-BD8D-5EF71393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649F6-F92C-4D3C-ABCD-0A22C4FA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51E15-DA17-4BD2-BB7B-075C487F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8C2C7-82C7-49D9-8884-B8DA8ECB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F49F6-C295-4AF9-A8B2-2F61ECDF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24E-50D0-4ADB-94F1-A6062B09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9D762-7954-4DC3-9646-9F23E930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14750-DB74-41B4-85FF-4D7127B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20662-E02F-46EC-9759-DCEBD5C5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1AD7D-D362-4FF7-9EC6-40815BD0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77068-255B-41BB-B39C-841B3BE0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38C7B-AE0B-401E-A7B0-6784C75B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AFB1A-C3C8-4936-9E46-D210D501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5FB50-BA09-4BF8-85FF-69A2753B93B9}" type="slidenum">
              <a:rPr b="1" lang="en-US" sz="1800" spc="-1" strike="noStrike">
                <a:solidFill>
                  <a:srgbClr val="74980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6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8" name="Oval 11"/>
              <p:cNvSpPr/>
              <p:nvPr/>
            </p:nvSpPr>
            <p:spPr>
              <a:xfrm>
                <a:off x="948600" y="30340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Oval 12"/>
              <p:cNvSpPr/>
              <p:nvPr/>
            </p:nvSpPr>
            <p:spPr>
              <a:xfrm>
                <a:off x="1290240" y="34974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Oval 13"/>
              <p:cNvSpPr/>
              <p:nvPr/>
            </p:nvSpPr>
            <p:spPr>
              <a:xfrm>
                <a:off x="1274400" y="37065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Oval 14"/>
              <p:cNvSpPr/>
              <p:nvPr/>
            </p:nvSpPr>
            <p:spPr>
              <a:xfrm>
                <a:off x="1144080" y="32781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50" name="Oval 17"/>
            <p:cNvSpPr/>
            <p:nvPr/>
          </p:nvSpPr>
          <p:spPr>
            <a:xfrm>
              <a:off x="2071800" y="250344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8"/>
            <p:cNvSpPr/>
            <p:nvPr/>
          </p:nvSpPr>
          <p:spPr>
            <a:xfrm>
              <a:off x="2787480" y="3473640"/>
              <a:ext cx="612720" cy="4096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19"/>
            <p:cNvSpPr/>
            <p:nvPr/>
          </p:nvSpPr>
          <p:spPr>
            <a:xfrm>
              <a:off x="2752560" y="39103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20"/>
            <p:cNvSpPr/>
            <p:nvPr/>
          </p:nvSpPr>
          <p:spPr>
            <a:xfrm>
              <a:off x="2481120" y="301608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Round Same Side Corner Rectangle 21"/>
          <p:cNvSpPr/>
          <p:nvPr/>
        </p:nvSpPr>
        <p:spPr>
          <a:xfrm flipH="1" rot="5400000">
            <a:off x="4571280" y="1603080"/>
            <a:ext cx="3475080" cy="3475080"/>
          </a:xfrm>
          <a:prstGeom prst="pie">
            <a:avLst/>
          </a:prstGeom>
          <a:solidFill>
            <a:srgbClr val="bac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6C9CF-7045-4C63-AE7A-95AB60E79B1B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2071800" y="1843200"/>
            <a:ext cx="1466640" cy="1676160"/>
            <a:chOff x="2071800" y="1843200"/>
            <a:chExt cx="1466640" cy="1676160"/>
          </a:xfrm>
        </p:grpSpPr>
        <p:sp>
          <p:nvSpPr>
            <p:cNvPr id="98" name="Oval 17"/>
            <p:cNvSpPr/>
            <p:nvPr/>
          </p:nvSpPr>
          <p:spPr>
            <a:xfrm>
              <a:off x="2071800" y="184320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>
              <a:off x="2787480" y="2813040"/>
              <a:ext cx="612720" cy="40932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2752560" y="32497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2481120" y="235584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A0DA1-1BEC-4FFA-933D-5AB7C9BB45A3}" type="slidenum">
              <a:rPr b="1" lang="en-US" sz="9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6"/>
          <p:cNvGrpSpPr/>
          <p:nvPr/>
        </p:nvGrpSpPr>
        <p:grpSpPr>
          <a:xfrm>
            <a:off x="222120" y="1254240"/>
            <a:ext cx="7893360" cy="3919320"/>
            <a:chOff x="222120" y="1254240"/>
            <a:chExt cx="7893360" cy="3919320"/>
          </a:xfrm>
        </p:grpSpPr>
        <p:sp>
          <p:nvSpPr>
            <p:cNvPr id="144" name="Rounded Rectangle 16"/>
            <p:cNvSpPr/>
            <p:nvPr/>
          </p:nvSpPr>
          <p:spPr>
            <a:xfrm>
              <a:off x="1028520" y="1600200"/>
              <a:ext cx="7086960" cy="3475080"/>
            </a:xfrm>
            <a:prstGeom prst="roundRect">
              <a:avLst>
                <a:gd name="adj" fmla="val 3120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" name="Group 9"/>
            <p:cNvGrpSpPr/>
            <p:nvPr/>
          </p:nvGrpSpPr>
          <p:grpSpPr>
            <a:xfrm>
              <a:off x="222120" y="1254240"/>
              <a:ext cx="3429000" cy="3919320"/>
              <a:chOff x="222120" y="1254240"/>
              <a:chExt cx="3429000" cy="3919320"/>
            </a:xfrm>
          </p:grpSpPr>
          <p:sp>
            <p:nvSpPr>
              <p:cNvPr id="146" name="Oval 18"/>
              <p:cNvSpPr/>
              <p:nvPr/>
            </p:nvSpPr>
            <p:spPr>
              <a:xfrm>
                <a:off x="222120" y="1254240"/>
                <a:ext cx="3429000" cy="2225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1895400" y="3522600"/>
                <a:ext cx="1433520" cy="95544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Oval 20"/>
              <p:cNvSpPr/>
              <p:nvPr/>
            </p:nvSpPr>
            <p:spPr>
              <a:xfrm>
                <a:off x="1814400" y="4543560"/>
                <a:ext cx="931680" cy="630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Oval 21"/>
              <p:cNvSpPr/>
              <p:nvPr/>
            </p:nvSpPr>
            <p:spPr>
              <a:xfrm>
                <a:off x="1177560" y="2452680"/>
                <a:ext cx="1476360" cy="95544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51E9F-9860-4201-AB9D-86B8A4F8E439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3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192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21400" y="3636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F53EE-9027-48B8-836E-22D894720146}" type="slidenum">
              <a:rPr b="1" lang="en-US" sz="1800" spc="-1" strike="noStrike">
                <a:solidFill>
                  <a:srgbClr val="74980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5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40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242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EB572-197B-43D9-9734-2841E719917F}" type="slidenum">
              <a:rPr b="1" lang="en-US" sz="18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8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88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290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D237E-A04B-4A43-A403-81BA51980E26}" type="slidenum">
              <a:rPr b="1" lang="en-US" sz="1800" spc="-1" strike="noStrike">
                <a:solidFill>
                  <a:srgbClr val="74980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7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336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338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5759B-9F6D-4DF1-ABFC-68235EC3A51E}" type="slidenum">
              <a:rPr b="1" lang="en-US" sz="1800" spc="-1" strike="noStrike">
                <a:solidFill>
                  <a:srgbClr val="74980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49805"/>
                </a:solidFill>
                <a:latin typeface="News Gothic MT"/>
              </a:rPr>
              <a:t>Bellringer</a:t>
            </a:r>
            <a:endParaRPr b="0" lang="en-US" sz="47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04040"/>
                </a:solidFill>
                <a:latin typeface="News Gothic MT"/>
              </a:rPr>
              <a:t>What is global warming?</a:t>
            </a:r>
            <a:endParaRPr b="0" lang="en-US" sz="6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304920" y="257040"/>
            <a:ext cx="8534160" cy="28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 u="sng">
                <a:solidFill>
                  <a:srgbClr val="3c2b95"/>
                </a:solidFill>
                <a:uFillTx/>
                <a:latin typeface="Arial"/>
              </a:rPr>
              <a:t>CO</a:t>
            </a:r>
            <a:r>
              <a:rPr b="1" lang="en-US" sz="4500" spc="-1" strike="noStrike" u="sng" baseline="-25000">
                <a:solidFill>
                  <a:srgbClr val="3c2b95"/>
                </a:solidFill>
                <a:uFillTx/>
                <a:latin typeface="Arial"/>
              </a:rPr>
              <a:t>2</a:t>
            </a:r>
            <a:r>
              <a:rPr b="1" lang="en-US" sz="4500" spc="-1" strike="noStrike" u="sng">
                <a:solidFill>
                  <a:srgbClr val="3c2b95"/>
                </a:solidFill>
                <a:uFillTx/>
                <a:latin typeface="Arial"/>
              </a:rPr>
              <a:t> catches heat and traps it in the atmospher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1"/>
          <a:stretch/>
        </p:blipFill>
        <p:spPr>
          <a:xfrm>
            <a:off x="5524560" y="3182760"/>
            <a:ext cx="3619440" cy="36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365040" y="146160"/>
            <a:ext cx="855036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3c2b95"/>
                </a:solidFill>
                <a:uFillTx/>
                <a:latin typeface="Arial"/>
              </a:rPr>
              <a:t>An increase in carbon dioxide (CO</a:t>
            </a:r>
            <a:r>
              <a:rPr b="1" lang="en-US" sz="4000" spc="-1" strike="noStrike" u="sng" baseline="-25000">
                <a:solidFill>
                  <a:srgbClr val="3c2b95"/>
                </a:solidFill>
                <a:uFillTx/>
                <a:latin typeface="Arial"/>
              </a:rPr>
              <a:t>2</a:t>
            </a:r>
            <a:r>
              <a:rPr b="1" lang="en-US" sz="4000" spc="-1" strike="noStrike" u="sng">
                <a:solidFill>
                  <a:srgbClr val="3c2b95"/>
                </a:solidFill>
                <a:uFillTx/>
                <a:latin typeface="Arial"/>
              </a:rPr>
              <a:t>) in the atmosphere causes global warming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3124080" y="3271680"/>
            <a:ext cx="4876920" cy="32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4040"/>
                </a:solidFill>
                <a:latin typeface="News Gothic MT"/>
              </a:rPr>
              <a:t>What causes global warming?</a:t>
            </a:r>
            <a:endParaRPr b="0" lang="en-US" sz="50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4040"/>
                </a:solidFill>
                <a:latin typeface="News Gothic MT"/>
              </a:rPr>
              <a:t>How does </a:t>
            </a:r>
            <a:r>
              <a:rPr b="0" lang="en-US" sz="5000" spc="-1" strike="noStrike">
                <a:solidFill>
                  <a:srgbClr val="000000"/>
                </a:solidFill>
                <a:latin typeface="News Gothic MT"/>
              </a:rPr>
              <a:t>C</a:t>
            </a:r>
            <a:r>
              <a:rPr b="0" lang="en-US" sz="5000" spc="-1" strike="noStrike">
                <a:solidFill>
                  <a:srgbClr val="404040"/>
                </a:solidFill>
                <a:latin typeface="News Gothic MT"/>
              </a:rPr>
              <a:t>O</a:t>
            </a:r>
            <a:r>
              <a:rPr b="0" lang="en-US" sz="5000" spc="-1" strike="noStrike" baseline="-25000">
                <a:solidFill>
                  <a:srgbClr val="404040"/>
                </a:solidFill>
                <a:latin typeface="News Gothic MT"/>
              </a:rPr>
              <a:t>2</a:t>
            </a:r>
            <a:r>
              <a:rPr b="1" lang="en-US" sz="5000" spc="-1" strike="noStrike" baseline="-25000">
                <a:solidFill>
                  <a:srgbClr val="404040"/>
                </a:solidFill>
                <a:latin typeface="News Gothic MT"/>
              </a:rPr>
              <a:t> </a:t>
            </a:r>
            <a:r>
              <a:rPr b="0" lang="en-US" sz="5000" spc="-1" strike="noStrike">
                <a:solidFill>
                  <a:srgbClr val="404040"/>
                </a:solidFill>
                <a:latin typeface="News Gothic MT"/>
              </a:rPr>
              <a:t>make the earth hotter?</a:t>
            </a:r>
            <a:endParaRPr b="0" lang="en-US" sz="50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70040" y="1590480"/>
            <a:ext cx="7556400" cy="391140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c2b95"/>
                </a:solidFill>
                <a:uFillTx/>
                <a:latin typeface="News Gothic MT"/>
              </a:rPr>
              <a:t>In order to reduce global warming we should…</a:t>
            </a:r>
            <a:endParaRPr b="0" lang="en-US" sz="54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3c2b95"/>
                </a:solidFill>
                <a:uFillTx/>
                <a:latin typeface="News Gothic MT"/>
              </a:rPr>
              <a:t>1. Reduce our use of fossil fuels</a:t>
            </a:r>
            <a:br>
              <a:rPr sz="4500"/>
            </a:br>
            <a:endParaRPr b="0" lang="en-US" sz="45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2519280" y="2433600"/>
            <a:ext cx="6624720" cy="4424400"/>
          </a:xfrm>
          <a:prstGeom prst="rect">
            <a:avLst/>
          </a:prstGeom>
          <a:ln w="0">
            <a:noFill/>
          </a:ln>
        </p:spPr>
      </p:pic>
      <p:sp>
        <p:nvSpPr>
          <p:cNvPr id="412" name="Down Arrow 3"/>
          <p:cNvSpPr/>
          <p:nvPr/>
        </p:nvSpPr>
        <p:spPr>
          <a:xfrm>
            <a:off x="0" y="2530440"/>
            <a:ext cx="2428920" cy="387036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 Fossil Fu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380440" cy="312408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c2b95"/>
                </a:solidFill>
                <a:uFillTx/>
                <a:latin typeface="News Gothic MT"/>
              </a:rPr>
              <a:t>2. Use inexhaustible energy sources like wind, sunlight, and water which don’t create carbon dioxide</a:t>
            </a:r>
            <a:br>
              <a:rPr sz="4000"/>
            </a:br>
            <a:endParaRPr b="0" lang="en-US" sz="40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095880" y="2917800"/>
            <a:ext cx="3048120" cy="2032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2894040" cy="3694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3"/>
          <a:stretch/>
        </p:blipFill>
        <p:spPr>
          <a:xfrm>
            <a:off x="304920" y="4454640"/>
            <a:ext cx="365112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77720" y="4635000"/>
            <a:ext cx="8166240" cy="146052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3c2b95"/>
                </a:solidFill>
                <a:uFillTx/>
                <a:latin typeface="News Gothic MT"/>
              </a:rPr>
              <a:t>3. Plant and protect trees</a:t>
            </a:r>
            <a:br>
              <a:rPr sz="5000"/>
            </a:br>
            <a:endParaRPr b="0" lang="en-US" sz="50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55440" y="41400"/>
            <a:ext cx="63691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7760" y="1904760"/>
            <a:ext cx="5327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2b95"/>
                </a:solidFill>
                <a:latin typeface="News Gothic MT"/>
              </a:rPr>
              <a:t>What can we do to reduce global warming?</a:t>
            </a:r>
            <a:endParaRPr b="0" lang="en-US" sz="50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62472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828440" y="1240920"/>
            <a:ext cx="70102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2001"/>
              </a:spcBef>
              <a:buClr>
                <a:srgbClr val="749805"/>
              </a:buClr>
              <a:buSzPct val="13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600" spc="-1" strike="noStrike">
                <a:solidFill>
                  <a:srgbClr val="3c2b95"/>
                </a:solidFill>
                <a:latin typeface="News Gothic MT"/>
              </a:rPr>
              <a:t>Which type of resource provides us energy and is best for the environment (renewable, nonrenewable, or inexhaustible)</a:t>
            </a:r>
            <a:r>
              <a:rPr b="0" lang="en-US" sz="4600" spc="-1" strike="noStrike">
                <a:solidFill>
                  <a:srgbClr val="749805"/>
                </a:solidFill>
                <a:latin typeface="News Gothic MT"/>
              </a:rPr>
              <a:t>?</a:t>
            </a:r>
            <a:endParaRPr b="0" lang="en-US" sz="46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genda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82880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Anticipatory Set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lvl="1" marL="743040" indent="-514440">
              <a:spcBef>
                <a:spcPts val="601"/>
              </a:spcBef>
              <a:buClr>
                <a:srgbClr val="bacc82"/>
              </a:buClr>
              <a:buSzPct val="130000"/>
              <a:buFont typeface="News Gothic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Bellringer 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lvl="1" marL="743040" indent="-514440">
              <a:spcBef>
                <a:spcPts val="601"/>
              </a:spcBef>
              <a:buClr>
                <a:srgbClr val="bacc82"/>
              </a:buClr>
              <a:buSzPct val="130000"/>
              <a:buFont typeface="News Gothic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Agenda and announcements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lvl="1" marL="743040" indent="-514440">
              <a:spcBef>
                <a:spcPts val="601"/>
              </a:spcBef>
              <a:buClr>
                <a:srgbClr val="bacc82"/>
              </a:buClr>
              <a:buSzPct val="130000"/>
              <a:buFont typeface="News Gothic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Big goal connection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INM: Global Warming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Guided Practice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Independent Practice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Closing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057040" y="1600200"/>
            <a:ext cx="631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2001"/>
              </a:spcBef>
              <a:buClr>
                <a:srgbClr val="749805"/>
              </a:buClr>
              <a:buSzPct val="13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3c2b95"/>
                </a:solidFill>
                <a:latin typeface="News Gothic MT"/>
              </a:rPr>
              <a:t>Which type of resource provides us energy and is worst for the environment (renewable, nonrenewable, or inexhaustible)?</a:t>
            </a:r>
            <a:endParaRPr b="0" lang="en-US" sz="45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    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404040"/>
                </a:solidFill>
                <a:uFillTx/>
                <a:latin typeface="News Gothic MT"/>
              </a:rPr>
              <a:t>2.6 Global Warming Independent Practice</a:t>
            </a:r>
            <a:endParaRPr b="0" lang="en-US" sz="5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Homework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Quiz Tomorrow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Work on projects and extra credi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04040"/>
                </a:solidFill>
                <a:latin typeface="News Gothic MT"/>
              </a:rPr>
              <a:t>What is the carbon cycle?</a:t>
            </a:r>
            <a:endParaRPr b="0" lang="en-US" sz="6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News Gothic MT"/>
              </a:rPr>
              <a:t>1. What process do plants use that takes carbon dioxide out the air?</a:t>
            </a: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News Gothic MT"/>
              </a:rPr>
              <a:t>2. Other than plants, what else takes carbon dioxide out of the air?  </a:t>
            </a: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04040"/>
                </a:solidFill>
                <a:latin typeface="News Gothic MT"/>
              </a:rPr>
              <a:t>Does cellular respiration take carbon dioxide out of the air or put carbon dioxide into the air?</a:t>
            </a:r>
            <a:endParaRPr b="0" lang="en-US" sz="39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News Gothic MT"/>
              </a:rPr>
              <a:t>What do decaying plants and animals turn into after millions of years?</a:t>
            </a:r>
            <a:endParaRPr b="0" lang="en-US" sz="43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9805"/>
                </a:solidFill>
                <a:latin typeface="News Gothic MT"/>
              </a:rPr>
              <a:t>Review 3</a:t>
            </a:r>
            <a:endParaRPr b="0" lang="en-US" sz="43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743200" y="2020680"/>
            <a:ext cx="56325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404040"/>
                </a:solidFill>
                <a:latin typeface="News Gothic MT"/>
              </a:rPr>
              <a:t>What happens when we burn fossil fuels?</a:t>
            </a:r>
            <a:endParaRPr b="0" lang="en-US" sz="65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980720" y="1981080"/>
            <a:ext cx="6394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404040"/>
                </a:solidFill>
                <a:uFillTx/>
                <a:latin typeface="News Gothic MT"/>
              </a:rPr>
              <a:t>2.6 Global Warming Class Notes</a:t>
            </a:r>
            <a:endParaRPr b="0" lang="en-US" sz="6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Global warming</a:t>
            </a: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	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04040"/>
                </a:solidFill>
                <a:uFillTx/>
                <a:latin typeface="News Gothic MT"/>
              </a:rPr>
              <a:t>Global warming is the process of the earth becoming hotter</a:t>
            </a:r>
            <a:endParaRPr b="0" lang="en-US" sz="46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54:18Z</dcterms:created>
  <dc:creator>dss</dc:creator>
  <dc:description/>
  <dc:language>en-US</dc:language>
  <cp:lastModifiedBy>Caroline Roth</cp:lastModifiedBy>
  <cp:lastPrinted>2010-04-19T02:09:50Z</cp:lastPrinted>
  <dcterms:modified xsi:type="dcterms:W3CDTF">2011-05-23T23:10:25Z</dcterms:modified>
  <cp:revision>36</cp:revision>
  <dc:subject/>
  <dc:title>Slide 1</dc:title>
</cp:coreProperties>
</file>